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F29F-77FC-45CB-A5F7-B79A1BCD9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0701-BD73-49AA-9862-A43736D7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D5AC54-898E-4744-B49D-8E28BD2A52C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F58008-009C-464A-AEE4-21EA495ECEA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887E76-C7D4-472A-92A6-2CBD16993CB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DDB871-F929-4425-9F02-0CAD2700865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C080C4-2BE4-4409-9D35-A3460186C88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8F531B-7F43-4D94-982D-8E5FDCC47FA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D03980-EAFE-4C4F-9982-1DEB6160F26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A6E6D3-2AAB-4257-8889-82701C4BC50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43B035-586B-4DA7-8698-432208B2002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0509-9BC2-4794-BB1E-3E38F9A05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25A8-81C5-4B28-B66F-B2B541335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2BBB-C702-4BAA-801D-AD2F96CD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971B2-40C9-424B-A74C-86495060758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2E309-6D62-46AF-B009-4306F74973F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B94D9C-9C9C-4F20-B485-595F008D633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91330F-2E0B-4D1B-A814-D1D2E45AC8D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BFA3CC-C2D4-4095-A0B9-636B7B7B0C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4471-CBA9-49FE-8750-A49ACA1D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A6E882-540C-403F-AAEF-EF944A416B9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A15FD2-3BC7-41B8-9024-34D68559DF2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EFBE1-8019-4913-BC82-293487BE50C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99A94-0C5F-4A31-A7BA-DD5B11B4CC7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A785B4-9126-4098-8323-95171647663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8CE1F-272A-40F7-A4FF-9818918A3F3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B1319-3DBA-4F6D-AFF7-F10F331432C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60729-14E8-4CE2-A5D6-E261C06442E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026E8-9BC2-422F-BF96-18FB33E39E3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20AFF-11BC-43DD-9019-2E52FBD26C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D828-C57E-4FE6-863D-1088C814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33E26-E681-40B0-80C7-C74D2E66ED6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CB4DC-E961-4E89-85C3-850F2BBD6FE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B93FC-BAB6-44EE-A917-A66F9A6C798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6CCD1-38D5-4898-AB0C-2639B823DD5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9EF97-AFCF-4CE9-B426-68D2E452C3F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6291F-8179-4057-8A04-41064DD82B8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9A4B8-F769-480A-81B3-AC81F70A2A5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93FDB-45DE-4FF4-AD9D-9E9B4344908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A3088-DC30-44F1-ABCE-97797082250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A091-C07D-4AEF-A866-C9A09EDF72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6289-A95E-4604-8024-2FACEFB9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3101-1D4A-49DE-BF3D-9F91356A7C2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331E-ADAB-499B-8751-4D43BF1FAF2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B6D1-7985-4BCD-BF02-53A0E831355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46C6-FEFC-4B18-8702-B472C2CAD96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3339-1522-4C9A-A8C9-5C9D6FE328A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DF2E-F111-4A13-AC34-4FD1956E88E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BEC5-C50C-4AC2-8738-449CFDADDEC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211D-619C-4F92-B929-A34125CA4B2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889E-5AEE-4E78-8AC3-D57266F48F6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96A5-21D3-4C93-82B1-359484E2A5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7CA7-8EC0-41F4-9CD7-6D8068E7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78C6-0510-4F0D-BD49-A89DBB6AC06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EAB0A3-66A4-4AB5-842E-CE0CD5A274B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B21C9F-2665-4DAA-9C20-D9FFD1C28C7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FA9A34-08EE-4609-9EA3-99912F802BF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7DB780-D933-41E4-9D29-7E283A8FDCA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37AE0E-A415-4A61-A939-E3393A0D8B9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718030-0E9D-47D0-8469-DEE7AA57BFC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43CBF8-E9EE-41B9-8761-BAC44285FD9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E1A847-B3C5-4AF6-92E6-BA135C6E527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91EE42-7E6B-4712-9062-60E6E42F4D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CBA0-3BCF-4D59-A714-E2B1DE40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C9426C-8183-4684-9C99-DDB046E2240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AEC091-F8DC-47EA-BE54-3A8C7F639B2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36BE88-55F8-4017-AD38-333509D2EC6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117577-1AD8-4A59-9327-8D66BF41D55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168424-CCDE-4303-9893-C9D42EC33CE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07E13B-2461-44A7-80A1-3796635B19B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D7C728-2AD2-4873-9125-ACA07528E95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36E3EC-7F47-4E97-A5AF-515D76F0910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D28525-831A-4F81-A2BD-5FA498EF79D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B4C314-17A1-4EF9-8720-C71C0C6345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B9C8-F9B2-49F9-9862-66A8AABF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F0D4E7-CC4C-498A-A6F8-D6EADCC2E3B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74485C-4564-4B0F-A3EC-9FDE1D649C4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1E7050-3691-4674-AD52-9D62B45E6E4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CC12BF-337C-4EF2-BF28-6CE7ACD6453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F9F978-1A5E-46E6-873C-78482D7BE03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3B4FF-54E3-4F13-B93F-D8F08BA8CD2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1D044-5028-4C2A-869E-9890D660965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AB293-11A1-46AD-B82A-12CE6E0399E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736AD-7054-450F-BCF7-6568057163C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1076E-33AD-465F-BAB0-57A798EDB4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FE79-E99D-479A-AD87-FB5D2FC4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A906A-BE7B-403E-A84E-28E4C10EADF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A87A4-D3A8-405B-B783-D7178E5DE2C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A48F0-D18C-4B10-97B3-965F2A78BF5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B2FB0-6BA9-4D55-BE2D-5ECC81D3131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8550E-3ACA-4004-95D4-72BD43E36E8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C36FE-5875-4A5B-9A9D-6B3E41DF3A6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BB8EE-986A-4BCC-9752-F28E0B31AE7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8EDBD7-56A7-41CF-A6A3-39E2E896166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05726E-7713-4D7D-B90D-F73595639DF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6E7411-39DD-4182-A981-B745B109C4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C586E61-B1F4-4DB9-AFFB-3B68B8C751F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5ACC9EF-CF6D-4C06-ADE9-E2F1F2CC86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4D3A934-F702-427B-A7D3-C3B2B535D43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B9ED1CC-9EA3-45C5-8AB1-A173ADF1F6F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9385DD6-0538-4EF1-99E0-64AA9E7232A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11895FE-6686-4BE6-80A7-A6022100274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85FD30C-165B-447D-9DD3-126F6E1E700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99328CE-B12C-40C9-8B5E-BEC5C55E244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1FDFE8C-4748-411C-A4B6-B6244B37DB3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Maija.Bundule@lza.lv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-era.net/joint-call-2016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900" spc="-1" strike="noStrike">
                <a:solidFill>
                  <a:srgbClr val="000000"/>
                </a:solidFill>
                <a:latin typeface="Verdana"/>
                <a:ea typeface="Verdana"/>
              </a:rPr>
              <a:t>M-era.Net 2 –                       2016.gada projektu konkurss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85800" y="57607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2 projek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733040" y="1752120"/>
            <a:ext cx="695340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Projekta mērķis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– koordinēt “M.ERA-Net” projekta konsorcija dalībnieku sadarbību materiālzinātņu un inženierzinātņu jomā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Projekta uzdevums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– kopīgu projektu konkursu organizēšan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a darbības laiks: 1.03.2016.-28.02.202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a koordinators – Austrijas Zinātnes fonds (Austrij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Latviju pārstāv Valsts izglītības attīstības aģentūra, kontaktpersonas:  Dr. Maija Bundule, tel. 67785423, e-pasts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Maija.Bundule@viaa.gov.lv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DA807BB-E022-49CB-97EA-7292F94A2AF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Bild 1" descr=""/>
          <p:cNvPicPr/>
          <p:nvPr/>
        </p:nvPicPr>
        <p:blipFill>
          <a:blip r:embed="rId2"/>
          <a:stretch/>
        </p:blipFill>
        <p:spPr>
          <a:xfrm>
            <a:off x="7308720" y="28728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46400" y="380880"/>
            <a:ext cx="64404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projekta dalībnie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314000" y="1752120"/>
            <a:ext cx="737244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Konkursā piedalās Eiropas 41 zinātni finansējoša organizācija pārstāvot 23 Eiropas valsti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Konkursā piedalā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aivānas Zinātnes un tehnoloģijas ministrij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ievijas inovācijas atbalsta fond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ienvidkorejas pētniecības atbalsta fond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razīlijas Izglītības un zinātnes ministrij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5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A56202C-6D83-4129-AF77-A7D7D349CCB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Bild 1" descr=""/>
          <p:cNvPicPr/>
          <p:nvPr/>
        </p:nvPicPr>
        <p:blipFill>
          <a:blip r:embed="rId1"/>
          <a:stretch/>
        </p:blipFill>
        <p:spPr>
          <a:xfrm>
            <a:off x="7454880" y="28728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2 konkur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776240" y="1752120"/>
            <a:ext cx="6910560" cy="3899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konkursa tematik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tegrated computational materials engineering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novative surfaces, coatings and interface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High performance synthetic and bio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ased composite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Functional material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terfaces between materials and biological hosts for health application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Materials for additive manufactur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CC1E2FC-47CE-412E-8747-F1D4BA49806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Bild 1" descr=""/>
          <p:cNvPicPr/>
          <p:nvPr/>
        </p:nvPicPr>
        <p:blipFill>
          <a:blip r:embed="rId1"/>
          <a:stretch/>
        </p:blipFill>
        <p:spPr>
          <a:xfrm>
            <a:off x="7607160" y="33480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395440" y="380880"/>
            <a:ext cx="62913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konkur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34680" y="1684080"/>
            <a:ext cx="827388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Konkursam var iesniegt projektus ar īstenošanas ilgumu līdz trīs gadie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Projekta konsorcija minimālais sastāvs: trīs dalībnieki no vismaz divām valstī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Informācija par konkursu atrodama projekta mājas lapā </a:t>
            </a:r>
            <a:r>
              <a:rPr b="0" lang="lv-LV" sz="22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www.m-era.net/joint-call-2016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Latvijas dalībnieki var plānot projekta izdevumus līdz 70 000 EUR/gadā</a:t>
            </a: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Verdana"/>
              </a:rPr>
              <a:t>Partner</a:t>
            </a:r>
            <a:r>
              <a:rPr b="1" lang="lv-LV" sz="1900" spc="-1" strike="noStrike">
                <a:solidFill>
                  <a:srgbClr val="000000"/>
                </a:solidFill>
                <a:latin typeface="Verdana"/>
                <a:ea typeface="Verdana"/>
              </a:rPr>
              <a:t>u meklēšanas instrumenti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MPTeAm3 piedāvā partneru meklēšanas instrumentu interneta vietnē  https://www.nmp-partnersearch.eu/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opas Uzņēmumu tīkla (EEN, </a:t>
            </a:r>
            <a:r>
              <a:rPr b="0" i="1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erprise Europe Network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nerības vietne internetā http://een.ec.europa.eu/tools/services/SearchCenter/Search/ProfileSimpleSearch?shid=32db25cb-726f-43b0-8b5f-7742d0935799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3600FDC-EB53-4048-9E66-BE937AF4C60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Bild 1" descr=""/>
          <p:cNvPicPr/>
          <p:nvPr/>
        </p:nvPicPr>
        <p:blipFill>
          <a:blip r:embed="rId2"/>
          <a:stretch/>
        </p:blipFill>
        <p:spPr>
          <a:xfrm>
            <a:off x="7607160" y="33660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konkur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193760" y="1752120"/>
            <a:ext cx="749304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u konkurss notiks divās kārtā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a mājas lapa www.m-era.net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u konkurss atvērts 2016.gada 15.mar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u ideju iesniegšanas termiņš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2016.gada 14.jūnij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lno projektu iesniegšanas termiņš – 2016.gada 10.novembri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Lēmums par atbalstāmajiem projektiem  2017.gada 24.janvār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6339CF5-5165-4FB8-87B4-5483C21F185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Bild 1" descr=""/>
          <p:cNvPicPr/>
          <p:nvPr/>
        </p:nvPicPr>
        <p:blipFill>
          <a:blip r:embed="rId1"/>
          <a:stretch/>
        </p:blipFill>
        <p:spPr>
          <a:xfrm>
            <a:off x="7607160" y="33660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Maija Bundule</cp:lastModifiedBy>
  <dcterms:modified xsi:type="dcterms:W3CDTF">2016-05-12T14:30:05Z</dcterms:modified>
  <cp:revision>17</cp:revision>
  <dc:subject/>
  <dc:title>PowerPoint Presentation</dc:title>
</cp:coreProperties>
</file>